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3E8E-8D76-4258-9A70-A3D4D33B3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8AC2-9FAE-4AE5-9F0C-24EE90603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6F4B-4276-48A3-A5CC-441290494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4333-68A4-4E61-9364-165CC78D4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33CA-B128-4C73-A6D2-946FB6BFCA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D43E-8E8D-45F2-A83E-E013C419C8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B930-CDEA-4ECB-800E-EDC413E44F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3C27-DCA0-482C-AA05-5B15E237BF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6520-2331-458B-876E-48F5A484D6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1EC1-C06F-4F60-826D-37021BE192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613D-872D-446B-8712-FE573210D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37E3-4DC7-447C-A165-C9B9D9280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3933-1047-4DE4-A4BE-6796ACE2BB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E017-F5D3-40C3-8AC8-D84957443C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E8F2-AAFB-4482-B52D-A9F4D40B57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26AF-D2BE-4124-BA57-8792D56E43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5059-0ADD-452B-A6D0-1FF4B0C0B3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D3D-9587-4043-B619-57F6202B7C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A3D-AC1F-4A5C-B5FB-276B931086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472-2326-4A5B-A2B3-C733D00D46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E6E-78A3-402E-A97D-4A1A79B716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8CE-743B-40C7-A324-4C2A3EC8A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E0BE-CA10-41C8-95D6-FB92F98D3A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178-0BA4-4DD9-8405-694E9F797D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DF1-C6DA-49FD-A2AE-EA853951A8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354-4FC7-458C-8172-859CC13C8B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0A6-F2C0-4ED4-9BB1-B127C3D07F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4E6-37B3-48D0-948A-B34447CBAC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2C9-E964-4C11-ACDE-6D6DBC1FC9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8F4-74A4-4613-8695-79AF4CBD52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251F-466E-44FF-94DA-820C3689BC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F9B9-5C75-48EF-81C8-3E7A9157B7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D37E-BF2B-4EBD-9115-C92409AB221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1F56-B76B-4CCF-AE7E-96EAB36D5A5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084CA-CDAC-4D5F-A6D8-8CBD514F6F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95A86-4739-4D40-BA3F-D0ECBE91FA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BE409-7BD9-4DEF-8C8B-AE192C9A47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20088-DD86-4902-B042-AC97847EBFF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4F157-03B2-4D03-9206-ECC5D0A154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10566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C8773-A3FA-49B2-AFE9-80C2DE8116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F76F3-CD42-4E1C-8C27-0F24F7B4C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CA8F-6966-455E-A209-87FB59C41D8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3EB44-DC33-41F4-9407-E75749C4FC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07FDB-B86F-4C13-823A-AC0DB25051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3DA17-6D2B-4F4C-98CC-8EC5FDDC0C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633360" y="539748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E3947-EC67-4AD6-98FD-37ACFE678F6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9160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63880" y="213372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21896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79160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363880" y="5397480"/>
            <a:ext cx="340200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4A330-EAA7-4BFE-AAAD-58844288A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3360" y="2133720"/>
            <a:ext cx="515628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8960" y="5397480"/>
            <a:ext cx="10566360" cy="298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0377-44B4-48FC-8A30-1E2BD5513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812880" indent="-5716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257480" indent="-5716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3" marL="1701720" indent="-57132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4" marL="2146320" indent="-5716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5" marL="2146320" indent="-57168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6" marL="2146320" indent="-57168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517120" y="9181800"/>
            <a:ext cx="268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EDF0-25C3-4988-BC99-D3D2880C2C5C}" type="slidenum"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18960" y="2133720"/>
            <a:ext cx="528300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 fontScale="83000"/>
          </a:bodyPr>
          <a:p>
            <a:pPr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74640" indent="-4744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043640" indent="-4744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3" marL="1412280" indent="-47412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4" marL="1781280" indent="-47448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5" marL="1781280" indent="-47448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6" marL="1781280" indent="-47448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219320" y="8737560"/>
            <a:ext cx="2311200" cy="71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83720" y="8721000"/>
            <a:ext cx="2945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Department of</a:t>
            </a:r>
            <a:br>
              <a:rPr sz="2400"/>
            </a:b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"/>
          <p:cNvSpPr/>
          <p:nvPr/>
        </p:nvSpPr>
        <p:spPr>
          <a:xfrm>
            <a:off x="10207800" y="8727120"/>
            <a:ext cx="15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ichael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1517120" y="9181800"/>
            <a:ext cx="268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1093-969A-4B12-A3DC-DCF264C76612}" type="slidenum"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19320" y="8737560"/>
            <a:ext cx="2311200" cy="711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83720" y="8721000"/>
            <a:ext cx="2945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Department of</a:t>
            </a:r>
            <a:br>
              <a:rPr sz="2400"/>
            </a:b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"/>
          <p:cNvSpPr/>
          <p:nvPr/>
        </p:nvSpPr>
        <p:spPr>
          <a:xfrm>
            <a:off x="10207800" y="8727120"/>
            <a:ext cx="15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ichael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3"/>
          </p:nvPr>
        </p:nvSpPr>
        <p:spPr>
          <a:xfrm>
            <a:off x="11517120" y="9181800"/>
            <a:ext cx="268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5420-0846-4069-A1C6-406CF7D1F344}" type="slidenum"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628840" y="8733600"/>
            <a:ext cx="315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pyright © 2013 J. M.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7514640"/>
            <a:ext cx="5308200" cy="1950840"/>
            <a:chOff x="1219320" y="7514640"/>
            <a:chExt cx="5308200" cy="195084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219320" y="7543800"/>
              <a:ext cx="19047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053880" y="7514640"/>
              <a:ext cx="3473640" cy="19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2280" rIns="152280" tIns="152280" bIns="152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6112c"/>
                  </a:solidFill>
                  <a:latin typeface="FoundrySterling-Book"/>
                  <a:ea typeface="FoundrySterling-Book"/>
                </a:rPr>
                <a:t>Department of</a:t>
              </a:r>
              <a:br>
                <a:rPr sz="3600"/>
              </a:br>
              <a:r>
                <a:rPr b="0" lang="en-US" sz="3600" spc="-1" strike="noStrike">
                  <a:solidFill>
                    <a:srgbClr val="06112c"/>
                  </a:solidFill>
                  <a:latin typeface="FoundrySterling-Book"/>
                  <a:ea typeface="FoundrySterling-Book"/>
                </a:rPr>
                <a:t>COMPUTER</a:t>
              </a:r>
              <a:br>
                <a:rPr sz="3600"/>
              </a:br>
              <a:r>
                <a:rPr b="0" lang="en-US" sz="3600" spc="-1" strike="noStrike">
                  <a:solidFill>
                    <a:srgbClr val="06112c"/>
                  </a:solidFill>
                  <a:latin typeface="FoundrySterling-Book"/>
                  <a:ea typeface="FoundrySterling-Book"/>
                </a:rPr>
                <a:t>SCIENCE</a:t>
              </a:r>
              <a:endParaRPr b="0" lang="en-US" sz="36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10566360" cy="2743200"/>
          </a:xfrm>
          <a:prstGeom prst="rect">
            <a:avLst/>
          </a:prstGeom>
          <a:solidFill>
            <a:srgbClr val="e1effe"/>
          </a:solidFill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1" lang="en-US" sz="72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8960" y="4572000"/>
            <a:ext cx="10566360" cy="1905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rmAutofit fontScale="25000"/>
          </a:bodyPr>
          <a:p>
            <a:pPr indent="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2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3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4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5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6" algn="ctr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18960" y="2133720"/>
            <a:ext cx="10566360" cy="1828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 fontScale="29000"/>
          </a:bodyPr>
          <a:p>
            <a:pPr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235440" indent="-16560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364320" indent="-16560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3" marL="493200" indent="-16560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4" marL="622080" indent="-165600">
              <a:spcBef>
                <a:spcPts val="2401"/>
              </a:spcBef>
              <a:buClr>
                <a:srgbClr val="00408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5" marL="622080" indent="-16560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6" marL="622080" indent="-165600">
              <a:spcBef>
                <a:spcPts val="2401"/>
              </a:spcBef>
              <a:buClr>
                <a:srgbClr val="000000"/>
              </a:buClr>
              <a:buSzPct val="120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219320" y="8737560"/>
            <a:ext cx="2311200" cy="711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83720" y="8721000"/>
            <a:ext cx="2945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Department of</a:t>
            </a:r>
            <a:br>
              <a:rPr sz="2400"/>
            </a:b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"/>
          <p:cNvSpPr/>
          <p:nvPr/>
        </p:nvSpPr>
        <p:spPr>
          <a:xfrm>
            <a:off x="10207800" y="8727120"/>
            <a:ext cx="15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ichael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4"/>
          </p:nvPr>
        </p:nvSpPr>
        <p:spPr>
          <a:xfrm>
            <a:off x="11517120" y="9181800"/>
            <a:ext cx="268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FB17-F870-40A2-AE2E-8648ADAC9495}" type="slidenum"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19320" y="8737560"/>
            <a:ext cx="2311200" cy="711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83720" y="8721000"/>
            <a:ext cx="2945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Department of</a:t>
            </a:r>
            <a:br>
              <a:rPr sz="2400"/>
            </a:br>
            <a:r>
              <a:rPr b="0" lang="en-US" sz="2400" spc="-1" strike="noStrike">
                <a:solidFill>
                  <a:srgbClr val="06112c"/>
                </a:solidFill>
                <a:latin typeface="FoundrySterling-Book"/>
                <a:ea typeface="FoundrySterling-Book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"/>
          <p:cNvSpPr/>
          <p:nvPr/>
        </p:nvSpPr>
        <p:spPr>
          <a:xfrm>
            <a:off x="10207800" y="8727120"/>
            <a:ext cx="158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Michael Spivey</a:t>
            </a:r>
            <a:endParaRPr b="0" lang="en-US" sz="1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566360" cy="1219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080"/>
                </a:solidFill>
                <a:latin typeface="Optima"/>
              </a:rPr>
              <a:t>Searching for the maximum</a:t>
            </a:r>
            <a:endParaRPr b="0" lang="en-US" sz="6400" spc="-1" strike="noStrike">
              <a:solidFill>
                <a:srgbClr val="004080"/>
              </a:solidFill>
              <a:latin typeface="Opti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10566360" cy="6248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 fontScale="96000"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he real-valued functi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, defined for 0 ≤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≤ 1, has a single maximum at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 0 ≤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&lt;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≤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the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&lt;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≤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&lt;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≤ 1 the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&gt;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You are told nothing else about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but you may ask for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t any values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you choose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w would you find the approximate value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w accurately could find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f you could ask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t only 10 values of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x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198D-BE46-447A-A8A4-F7AF98F5620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